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B6F-1F91-4F4F-9105-4FCFE321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20E-6DCB-41D5-AB99-4215D9E7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BC4-228C-4F7C-A96F-3205D7FD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2ED-1122-44F8-B7DA-239A8A5A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B10B-F371-49FC-B1B7-AB7F6107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8A9F-7B06-4D2C-8B46-94648BA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846E-B346-4D3B-A067-85A9CC51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AB4B-32CF-4C39-B07A-011E8A53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B4CE-DF6E-4000-AFA3-02C3A6B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707C-E9F4-4F90-BFE0-3DE31E8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8E7F-80C4-494F-8F87-8F2528C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A68-595E-46CE-906E-FFBAC57D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0711-167C-444F-A9D5-A068F7E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BFE1-1070-4B11-8849-A9E64AD1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9CC2-6590-47BA-9FF9-082B501F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8F44-1C39-4CBB-91E6-4A42771D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C1F6-D3E6-4E92-9032-016DF3D3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DE36-3A0A-4F78-A6B9-930876AA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1CD4-1B5C-4CFD-B6BF-12630CB4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CAE7-8F91-400F-B798-DFADAF0A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8F30-8F6A-4AA4-A406-3BC17105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9500-1EF3-4BF5-A6B3-982E94B1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F1E-F413-46D0-868F-D4A51A8C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2310-80AD-4FA0-B2F1-0C3D7269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0336-A1D7-422E-9F91-438BC265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86F5-CB32-4668-91E9-9B310C1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F40F-0FBA-475C-AF8A-AD0AA40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46AD-9E0E-4300-B1E4-596E5CC4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FC14-8302-4B18-B160-E60C202D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5A9C-F0AF-439C-A11B-CD901163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00B4-EADE-41E1-909E-66499572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CC24-40CE-4FB0-8D1E-4DD17481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87C3E-073E-4791-8F36-C7C2ACEC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A21-CAF0-4B2F-AC53-0AF4CF55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0272B-F09A-474E-87BE-C790817A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AFE8-9805-46C4-B626-7018EF28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853E-95BA-44F3-96AC-A9F28133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95A7-5C07-4B32-816F-99B76D82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8E80-B5C2-45E8-BF15-8D8AE99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86B9-67C6-40C9-B61F-8B42181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5B1E-0F0B-48D3-B277-BA59CABC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6E2F-6BBB-418C-AFD5-1E3660AE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3C44-C8CB-4D9E-9308-16BF4ED5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CCC21-865F-4897-88F4-B1658C98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26C-FFD7-49E7-B382-DAB7992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E683-FF19-4933-8080-61B933AB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3A2D-C9BB-47B0-886A-CB2371F4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8BE3-81A8-4886-B68F-15B00185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F54C-B487-4060-A867-18B98922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B942-A362-4D50-AC68-E17AD218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14827-2A1C-478B-B810-8EB638C1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115F-B4C0-489E-A218-CFCEC71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4019-CA7F-4DD3-B729-650D765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E30F2-2365-4F09-98B8-FC4EB82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D4E1B-0514-4E0C-9519-035CE5F1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7B0-81D6-475C-A006-942622FA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631C8-1FB3-4C6B-B5F5-230CF863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2B5F9-B690-482D-94EC-52DFF3F4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57858-A195-46A5-8162-C790AD13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0FE58-2178-492C-8665-D3B60B11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20943-C882-48C9-8DA9-CD8CB636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17696-1ACB-416E-80C0-38CF9B85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A96C5-5A3C-411F-817E-A6917C9A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3D85-3FE0-4B43-A8C4-59D75A6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A619-B2E5-469A-8BE6-FCD2BB8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F817-2D0F-46AC-922F-95742A2B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D6A-FE96-4DEF-8EB8-A8EB19FC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7B2D-345B-408D-A427-3F0104E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CD386-AE77-460B-8248-0901F334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EEC5-5758-47F0-9832-A2B1E528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8D05-B9AD-44AF-940C-FCDDACAB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E84CD-3FE5-4D62-A83C-42863E3E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29445-DA7A-421C-9CD8-654A73C0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0545F-146A-4F74-8FE1-D0DF301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9C9F4-2034-49F8-A421-BFF8133C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E86CB-5479-4030-B5BA-B33422EB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8C1A9-607C-4FCC-93EE-2F60A9C9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7C5-CAC2-43C7-BFC5-0DA52857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3BE2-B245-48D2-97A1-8522C9C1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811B-C7DB-49B9-8D2A-161AD4F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55F0A-95B6-42B4-9677-4C79EE7A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5CF01-CB3E-4E82-B6E9-05CCF0CF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45F7F-3291-4A8F-AA6E-D5EB07AA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B8B-662B-4877-846E-2469278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9F0-11BD-45F4-83A1-A21F287D39AC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026A-10ED-4FCC-8DBF-5048AEF3C0C6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BF32-1C70-4B63-903B-345AA0B180BA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BC9D-E958-4225-8E04-147723D07F67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0C9-CB49-48A1-B105-C9434A17BB40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D8A2-CCF8-407D-B902-5E34DF64E424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42F8-9431-4DA3-A981-DA0EDAB3B049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2560" y="1557000"/>
            <a:ext cx="7993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2314"/>
                </a:solidFill>
                <a:latin typeface="Gill Sans MT"/>
              </a:rPr>
              <a:t>ORIENTACIONES ESENCIALES PARA LA PLANIFICACIÓN DIDÁCTICA:</a:t>
            </a:r>
            <a:br>
              <a:rPr sz="4000"/>
            </a:br>
            <a:r>
              <a:rPr b="1" lang="es-ES" sz="4000" spc="-1" strike="noStrike">
                <a:solidFill>
                  <a:srgbClr val="572314"/>
                </a:solidFill>
                <a:latin typeface="Gill Sans MT"/>
              </a:rPr>
              <a:t>Diseñar, sistematizar, operativizar y dinamizar los procesos de aprendizaj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42560" y="537336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20e04"/>
                </a:solidFill>
                <a:latin typeface="Gill Sans MT"/>
              </a:rPr>
              <a:t>Javier Vladimir Quintanilla Orella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72314"/>
                </a:solidFill>
                <a:latin typeface="Bookman Old Style"/>
              </a:rPr>
              <a:t>IMPLICACIONES EDUCATIVA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5 Rectángulo"/>
          <p:cNvSpPr/>
          <p:nvPr/>
        </p:nvSpPr>
        <p:spPr>
          <a:xfrm>
            <a:off x="179280" y="1052640"/>
            <a:ext cx="8856720" cy="520560"/>
          </a:xfrm>
          <a:prstGeom prst="rect">
            <a:avLst/>
          </a:prstGeom>
          <a:solidFill>
            <a:srgbClr val="6116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man Old Style"/>
              </a:rPr>
              <a:t>El/La docente deb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6 Rectángulo"/>
          <p:cNvSpPr/>
          <p:nvPr/>
        </p:nvSpPr>
        <p:spPr>
          <a:xfrm>
            <a:off x="3419640" y="156204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Aceptar las actitudes, sentimientos e ideas de sus estudiantes como expresiones legítimas de su persona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7 Rectángulo"/>
          <p:cNvSpPr/>
          <p:nvPr/>
        </p:nvSpPr>
        <p:spPr>
          <a:xfrm>
            <a:off x="3419640" y="2997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reer que la experiencia continuada es capaz de conducirnos desde el error a la verdad, y que el aprendizaje es un proceso continuo de mej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8 Rectángulo"/>
          <p:cNvSpPr/>
          <p:nvPr/>
        </p:nvSpPr>
        <p:spPr>
          <a:xfrm>
            <a:off x="3419640" y="443700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rear el clima necesario para aceptar al estudiante como es, dejar que se exprese libremente y animarlo a la particip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9 Rectángulo"/>
          <p:cNvSpPr/>
          <p:nvPr/>
        </p:nvSpPr>
        <p:spPr>
          <a:xfrm>
            <a:off x="3394080" y="58644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Evitar una actitud autorita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9" descr="http://1.bp.blogspot.com/-ser0AzsXAfs/T429ehsX_aI/AAAAAAAAAX0/Kf2TafUT7Iw/s1600/Profesor%2Bdando%2Bpaso%2Ba%2Bun%2Balumno.jpg"/>
          <p:cNvPicPr/>
          <p:nvPr/>
        </p:nvPicPr>
        <p:blipFill>
          <a:blip r:embed="rId1"/>
          <a:stretch/>
        </p:blipFill>
        <p:spPr>
          <a:xfrm>
            <a:off x="0" y="1628640"/>
            <a:ext cx="3367080" cy="2692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http://comunidad.udistrital.edu.co/flrodriguezh/files/2011/12/PICT0005-1024x768.jpg"/>
          <p:cNvPicPr/>
          <p:nvPr/>
        </p:nvPicPr>
        <p:blipFill>
          <a:blip r:embed="rId2"/>
          <a:stretch/>
        </p:blipFill>
        <p:spPr>
          <a:xfrm>
            <a:off x="0" y="4365720"/>
            <a:ext cx="336708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solidFill>
            <a:srgbClr val="637f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man Old Style"/>
              </a:rPr>
              <a:t>ENFOQUE DE PROCESO DIDÁCTICO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4 Elipse"/>
          <p:cNvSpPr/>
          <p:nvPr/>
        </p:nvSpPr>
        <p:spPr>
          <a:xfrm>
            <a:off x="179280" y="1459080"/>
            <a:ext cx="3097440" cy="674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Gill Sans MT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5 Llamada de flecha a la izquierda"/>
          <p:cNvSpPr/>
          <p:nvPr/>
        </p:nvSpPr>
        <p:spPr>
          <a:xfrm>
            <a:off x="3276720" y="1387440"/>
            <a:ext cx="5759280" cy="746280"/>
          </a:xfrm>
          <a:prstGeom prst="leftArrowCallout">
            <a:avLst>
              <a:gd name="adj1" fmla="val 25002"/>
              <a:gd name="adj2" fmla="val 25000"/>
              <a:gd name="adj3" fmla="val 25010"/>
              <a:gd name="adj4" fmla="val 89953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ill Sans MT"/>
              </a:rPr>
              <a:t>Actividades para dar sentido, plantear problemas, crear conflicto cognitivo (videos, películas, canciones, lecturas breves interesantes e impresionantes, pregunta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6 Entrada manual"/>
          <p:cNvSpPr/>
          <p:nvPr/>
        </p:nvSpPr>
        <p:spPr>
          <a:xfrm>
            <a:off x="179280" y="2133720"/>
            <a:ext cx="3068640" cy="1008000"/>
          </a:xfrm>
          <a:prstGeom prst="flowChartManualInput">
            <a:avLst/>
          </a:prstGeom>
          <a:solidFill>
            <a:srgbClr val="ff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b1d15"/>
                </a:solidFill>
                <a:latin typeface="Gill Sans MT"/>
              </a:rPr>
              <a:t>PROCESAMIENTO DE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10 Llamada de flecha a la izquierda"/>
          <p:cNvSpPr/>
          <p:nvPr/>
        </p:nvSpPr>
        <p:spPr>
          <a:xfrm>
            <a:off x="3276720" y="2251080"/>
            <a:ext cx="5759280" cy="746280"/>
          </a:xfrm>
          <a:prstGeom prst="leftArrowCallout">
            <a:avLst>
              <a:gd name="adj1" fmla="val 25002"/>
              <a:gd name="adj2" fmla="val 25000"/>
              <a:gd name="adj3" fmla="val 25010"/>
              <a:gd name="adj4" fmla="val 89953"/>
            </a:avLst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Gill Sans MT"/>
              </a:rPr>
              <a:t>Estrategias que posibiliten la asimilación y la comprensión del contenido conceptual: ponencias, lectura sistemática, cuadro resumen, mapa conceptual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7 Rectángulo redondeado"/>
          <p:cNvSpPr/>
          <p:nvPr/>
        </p:nvSpPr>
        <p:spPr>
          <a:xfrm>
            <a:off x="179280" y="3352680"/>
            <a:ext cx="3097440" cy="723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b1d15"/>
                </a:solidFill>
                <a:latin typeface="Gill Sans MT"/>
              </a:rPr>
              <a:t>APL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12 Llamada de flecha a la izquierda"/>
          <p:cNvSpPr/>
          <p:nvPr/>
        </p:nvSpPr>
        <p:spPr>
          <a:xfrm>
            <a:off x="3276720" y="3332160"/>
            <a:ext cx="5759280" cy="744480"/>
          </a:xfrm>
          <a:prstGeom prst="leftArrowCallout">
            <a:avLst>
              <a:gd name="adj1" fmla="val 25002"/>
              <a:gd name="adj2" fmla="val 25000"/>
              <a:gd name="adj3" fmla="val 24999"/>
              <a:gd name="adj4" fmla="val 89953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ill Sans MT"/>
              </a:rPr>
              <a:t>Estrategias o procedimientos que permitan aplicar el contenido conceptual por medio de la experimentación, el diseño y la elaboración, ejercicios prácticos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9 Documento"/>
          <p:cNvSpPr/>
          <p:nvPr/>
        </p:nvSpPr>
        <p:spPr>
          <a:xfrm>
            <a:off x="179280" y="4330800"/>
            <a:ext cx="3097440" cy="898560"/>
          </a:xfrm>
          <a:prstGeom prst="flowChartDocument">
            <a:avLst/>
          </a:prstGeom>
          <a:solidFill>
            <a:srgbClr val="fed46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b1d15"/>
                </a:solidFill>
                <a:latin typeface="Gill Sans MT"/>
              </a:rPr>
              <a:t>SOCI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15 Llamada de flecha a la izquierda"/>
          <p:cNvSpPr/>
          <p:nvPr/>
        </p:nvSpPr>
        <p:spPr>
          <a:xfrm>
            <a:off x="3276720" y="4340160"/>
            <a:ext cx="5759280" cy="744480"/>
          </a:xfrm>
          <a:prstGeom prst="leftArrowCallout">
            <a:avLst>
              <a:gd name="adj1" fmla="val 25002"/>
              <a:gd name="adj2" fmla="val 25000"/>
              <a:gd name="adj3" fmla="val 24999"/>
              <a:gd name="adj4" fmla="val 89953"/>
            </a:avLst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Gill Sans MT"/>
              </a:rPr>
              <a:t>Puesta en común, publicación o demostración de lo aprendido con el fin de compartirlo socialm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39 Llamada de flecha a la izquierda"/>
          <p:cNvSpPr/>
          <p:nvPr/>
        </p:nvSpPr>
        <p:spPr>
          <a:xfrm>
            <a:off x="3295800" y="5299200"/>
            <a:ext cx="5759280" cy="1396800"/>
          </a:xfrm>
          <a:prstGeom prst="leftArrowCallout">
            <a:avLst>
              <a:gd name="adj1" fmla="val 25002"/>
              <a:gd name="adj2" fmla="val 18208"/>
              <a:gd name="adj3" fmla="val 25006"/>
              <a:gd name="adj4" fmla="val 89953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ill Sans MT"/>
              </a:rPr>
              <a:t>Estrategias, procedimientos e instrumentos que permitan no sólo verificar el cumplimiento de objetivos o asimilación de contenidos conceptuales, sino, también,  mejorar el proceso tomando en cuenta los indicadores de logros de los contenidos procedimentales y actitudinal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14342 Proceso alternativo"/>
          <p:cNvSpPr/>
          <p:nvPr/>
        </p:nvSpPr>
        <p:spPr>
          <a:xfrm>
            <a:off x="179280" y="774720"/>
            <a:ext cx="8785440" cy="422280"/>
          </a:xfrm>
          <a:prstGeom prst="flowChartAlternateProcess">
            <a:avLst/>
          </a:prstGeom>
          <a:solidFill>
            <a:srgbClr val="d0e4a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Gill Sans MT"/>
              </a:rPr>
              <a:t>ELEMENTOS DEL PRO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14343 Hexágono"/>
          <p:cNvSpPr/>
          <p:nvPr/>
        </p:nvSpPr>
        <p:spPr>
          <a:xfrm>
            <a:off x="179280" y="5589720"/>
            <a:ext cx="3116520" cy="79200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232d4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ill Sans MT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solidFill>
            <a:srgbClr val="637f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man Old Style"/>
              </a:rPr>
              <a:t>ENFOQUE DE PROCESO DIDÁCTICO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4 Elipse"/>
          <p:cNvSpPr/>
          <p:nvPr/>
        </p:nvSpPr>
        <p:spPr>
          <a:xfrm>
            <a:off x="2627280" y="1268280"/>
            <a:ext cx="3097080" cy="675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Gill Sans MT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6 Entrada manual"/>
          <p:cNvSpPr/>
          <p:nvPr/>
        </p:nvSpPr>
        <p:spPr>
          <a:xfrm>
            <a:off x="2627280" y="2205000"/>
            <a:ext cx="3068640" cy="936720"/>
          </a:xfrm>
          <a:prstGeom prst="flowChartManualInput">
            <a:avLst/>
          </a:prstGeom>
          <a:solidFill>
            <a:srgbClr val="ff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b1d15"/>
                </a:solidFill>
                <a:latin typeface="Gill Sans MT"/>
              </a:rPr>
              <a:t>PROCESAMIENTO DE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7 Rectángulo redondeado"/>
          <p:cNvSpPr/>
          <p:nvPr/>
        </p:nvSpPr>
        <p:spPr>
          <a:xfrm>
            <a:off x="2597040" y="3497400"/>
            <a:ext cx="3097440" cy="7236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b1d15"/>
                </a:solidFill>
                <a:latin typeface="Gill Sans MT"/>
              </a:rPr>
              <a:t>APL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9 Documento"/>
          <p:cNvSpPr/>
          <p:nvPr/>
        </p:nvSpPr>
        <p:spPr>
          <a:xfrm>
            <a:off x="2597040" y="4546440"/>
            <a:ext cx="3097440" cy="898560"/>
          </a:xfrm>
          <a:prstGeom prst="flowChartDocument">
            <a:avLst/>
          </a:prstGeom>
          <a:solidFill>
            <a:srgbClr val="fed46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b1d15"/>
                </a:solidFill>
                <a:latin typeface="Gill Sans MT"/>
              </a:rPr>
              <a:t>SOCI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14342 Proceso alternativo"/>
          <p:cNvSpPr/>
          <p:nvPr/>
        </p:nvSpPr>
        <p:spPr>
          <a:xfrm>
            <a:off x="179280" y="774720"/>
            <a:ext cx="8785440" cy="422280"/>
          </a:xfrm>
          <a:prstGeom prst="flowChartAlternateProcess">
            <a:avLst/>
          </a:prstGeom>
          <a:solidFill>
            <a:srgbClr val="d0e4a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Gill Sans MT"/>
              </a:rPr>
              <a:t>DINÁMICA DEL PROCESO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14343 Hexágono"/>
          <p:cNvSpPr/>
          <p:nvPr/>
        </p:nvSpPr>
        <p:spPr>
          <a:xfrm>
            <a:off x="2587680" y="5732640"/>
            <a:ext cx="3116160" cy="79200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232d4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ill Sans MT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92" name="14 Conector recto de flecha"/>
          <p:cNvCxnSpPr/>
          <p:nvPr/>
        </p:nvCxnSpPr>
        <p:spPr>
          <a:xfrm>
            <a:off x="4140000" y="1936800"/>
            <a:ext cx="1080" cy="340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28 Conector recto de flecha"/>
          <p:cNvCxnSpPr/>
          <p:nvPr/>
        </p:nvCxnSpPr>
        <p:spPr>
          <a:xfrm>
            <a:off x="4140000" y="3160440"/>
            <a:ext cx="1080" cy="340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29 Conector recto de flecha"/>
          <p:cNvCxnSpPr/>
          <p:nvPr/>
        </p:nvCxnSpPr>
        <p:spPr>
          <a:xfrm>
            <a:off x="4140000" y="4221000"/>
            <a:ext cx="1080" cy="340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30 Conector recto de flecha"/>
          <p:cNvCxnSpPr/>
          <p:nvPr/>
        </p:nvCxnSpPr>
        <p:spPr>
          <a:xfrm>
            <a:off x="4140000" y="5394240"/>
            <a:ext cx="1080" cy="339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25 Conector recto"/>
          <p:cNvSpPr/>
          <p:nvPr/>
        </p:nvSpPr>
        <p:spPr>
          <a:xfrm flipH="1">
            <a:off x="1763280" y="6129360"/>
            <a:ext cx="824040" cy="0"/>
          </a:xfrm>
          <a:prstGeom prst="line">
            <a:avLst/>
          </a:prstGeom>
          <a:ln w="31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27 Conector recto"/>
          <p:cNvSpPr/>
          <p:nvPr/>
        </p:nvSpPr>
        <p:spPr>
          <a:xfrm flipV="1">
            <a:off x="1763640" y="285264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98" name="14336 Conector recto de flecha"/>
          <p:cNvCxnSpPr/>
          <p:nvPr/>
        </p:nvCxnSpPr>
        <p:spPr>
          <a:xfrm>
            <a:off x="1763280" y="2852280"/>
            <a:ext cx="824760" cy="1080"/>
          </a:xfrm>
          <a:prstGeom prst="straightConnector1">
            <a:avLst/>
          </a:prstGeom>
          <a:ln w="3168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399" name="37 Conector recto de flecha"/>
          <p:cNvCxnSpPr/>
          <p:nvPr/>
        </p:nvCxnSpPr>
        <p:spPr>
          <a:xfrm>
            <a:off x="1763280" y="3860280"/>
            <a:ext cx="824760" cy="1080"/>
          </a:xfrm>
          <a:prstGeom prst="straightConnector1">
            <a:avLst/>
          </a:prstGeom>
          <a:ln w="3168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400" name="38 Conector recto de flecha"/>
          <p:cNvCxnSpPr/>
          <p:nvPr/>
        </p:nvCxnSpPr>
        <p:spPr>
          <a:xfrm>
            <a:off x="1763280" y="5013000"/>
            <a:ext cx="824760" cy="1080"/>
          </a:xfrm>
          <a:prstGeom prst="straightConnector1">
            <a:avLst/>
          </a:prstGeom>
          <a:ln w="3168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401" name="40 Conector recto de flecha"/>
          <p:cNvCxnSpPr/>
          <p:nvPr/>
        </p:nvCxnSpPr>
        <p:spPr>
          <a:xfrm>
            <a:off x="5703480" y="6129000"/>
            <a:ext cx="1245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2" name="42 Elipse"/>
          <p:cNvSpPr/>
          <p:nvPr/>
        </p:nvSpPr>
        <p:spPr>
          <a:xfrm>
            <a:off x="6973920" y="5810400"/>
            <a:ext cx="1990800" cy="637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a6d7d"/>
                </a:solidFill>
                <a:latin typeface="Gill Sans MT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Gill Sans MT"/>
              </a:rPr>
              <a:t>Bibliografí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AGER, R. F. (1985). </a:t>
            </a:r>
            <a:r>
              <a:rPr b="1" i="1" lang="es-ES" sz="2800" spc="-1" strike="noStrike">
                <a:solidFill>
                  <a:srgbClr val="000000"/>
                </a:solidFill>
                <a:latin typeface="Gill Sans MT"/>
              </a:rPr>
              <a:t>Desarrollo de actitudes hacia la enseñanza (3ª Ed.)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Editorial Martínez Roca. Barcelona. 200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VAK, J. D. – GOWIN, D. B. (1988). </a:t>
            </a:r>
            <a:r>
              <a:rPr b="1" i="1" lang="es-ES" sz="2800" spc="-1" strike="noStrike">
                <a:solidFill>
                  <a:srgbClr val="000000"/>
                </a:solidFill>
                <a:latin typeface="Gill Sans MT"/>
              </a:rPr>
              <a:t>Aprendiendo a prender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Editorial Martínez Roca. Barcelona, 19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42560" y="1989000"/>
            <a:ext cx="789156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Gill Sans MT"/>
              </a:rPr>
              <a:t>«El diseño no es sólo la estética o la apariencia de un modelo, es, más bien, la especificación y concreción de cómo funciona un proceso»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NCEPTOS BÁSICOS IMPRESCINDIBLES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69720" y="1197000"/>
            <a:ext cx="4034160" cy="79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 MT"/>
              </a:rPr>
              <a:t>[ ENSEÑAR ]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95280" y="2065320"/>
            <a:ext cx="4681440" cy="294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= Orientar y dirigir étic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sistemá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adecuadam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 proceso 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300720" y="1484280"/>
            <a:ext cx="27352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= [Planificar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+ [Aplicar una metodología adecuada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+ [EVALUAR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2 Flecha derecha"/>
          <p:cNvSpPr/>
          <p:nvPr/>
        </p:nvSpPr>
        <p:spPr>
          <a:xfrm>
            <a:off x="2843280" y="2492280"/>
            <a:ext cx="3457440" cy="720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6 Flecha derecha"/>
          <p:cNvSpPr/>
          <p:nvPr/>
        </p:nvSpPr>
        <p:spPr>
          <a:xfrm rot="5400000">
            <a:off x="3031200" y="3944160"/>
            <a:ext cx="1568520" cy="792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395280" y="5124600"/>
            <a:ext cx="8640720" cy="1617480"/>
          </a:xfrm>
          <a:prstGeom prst="rect">
            <a:avLst/>
          </a:prstGeom>
          <a:solidFill>
            <a:srgbClr val="b0b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4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ncipios y características del aprendizaje de las personas adu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ntexto social, cultural,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ecursos y materiales disponi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99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NCEPTOS BÁSICOS IMPRESCINDIBLES: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1042920" y="907920"/>
            <a:ext cx="7993080" cy="7923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APRENDIZA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1042920" y="1773360"/>
            <a:ext cx="7993080" cy="4968720"/>
          </a:xfrm>
          <a:prstGeom prst="roundRect">
            <a:avLst>
              <a:gd name="adj" fmla="val 248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Proceso mediante el cual se gen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adquisición de conocimi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y cambio en las conduct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relativamente perman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por medio de experienci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significativas y gratific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4b220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Bookman Old Style"/>
              </a:rPr>
              <a:t>PRINCIPIOS DEL APRENDIZAJE ADULT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1 Rectángulo"/>
          <p:cNvSpPr/>
          <p:nvPr/>
        </p:nvSpPr>
        <p:spPr>
          <a:xfrm>
            <a:off x="3276720" y="1100160"/>
            <a:ext cx="56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El aprendiz adulto debe ser animado a conducir su propio aprendizaje. Como todo ser en formación, debe pasar de un estado de dependencia a un estado de independ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2 Rectángulo"/>
          <p:cNvSpPr/>
          <p:nvPr/>
        </p:nvSpPr>
        <p:spPr>
          <a:xfrm>
            <a:off x="3335400" y="3141720"/>
            <a:ext cx="562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a experiencia adquirida por el adulto debe ser utilizada como facilitadora del aprendiza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3 Rectángulo"/>
          <p:cNvSpPr/>
          <p:nvPr/>
        </p:nvSpPr>
        <p:spPr>
          <a:xfrm>
            <a:off x="3330720" y="4730760"/>
            <a:ext cx="563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a formación debe estar más centrada en los procedimientos y las competencias que en los conocimientos estrictos. La aportación teórica no tiene sentido sin la referencia a la prác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9" descr="http://www.solutionpcperu.com/oreant/imagenes_web/931543_23712902.jpg"/>
          <p:cNvPicPr/>
          <p:nvPr/>
        </p:nvPicPr>
        <p:blipFill>
          <a:blip r:embed="rId1"/>
          <a:stretch/>
        </p:blipFill>
        <p:spPr>
          <a:xfrm>
            <a:off x="0" y="1100160"/>
            <a:ext cx="3335400" cy="254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http://2.bp.blogspot.com/_-pjhabM3h5k/S_dBkFJUzeI/AAAAAAAAAAM/rHsjWteYZmY/S740/organizacion.gif"/>
          <p:cNvPicPr/>
          <p:nvPr/>
        </p:nvPicPr>
        <p:blipFill>
          <a:blip r:embed="rId2"/>
          <a:stretch/>
        </p:blipFill>
        <p:spPr>
          <a:xfrm>
            <a:off x="15840" y="3811680"/>
            <a:ext cx="33195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572314"/>
                </a:solidFill>
                <a:latin typeface="Bookman Old Style"/>
              </a:rPr>
              <a:t>CARACTERÍSTICAS DEL APRENDIZAJE ADULTO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4 Rectángulo"/>
          <p:cNvSpPr/>
          <p:nvPr/>
        </p:nvSpPr>
        <p:spPr>
          <a:xfrm>
            <a:off x="3419640" y="1052640"/>
            <a:ext cx="56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os adultos se comprometen a aprender cuando las metas y los objetivos se consideran realistas e importantes, y se perciben con utilidad inmedi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5 Rectángulo"/>
          <p:cNvSpPr/>
          <p:nvPr/>
        </p:nvSpPr>
        <p:spPr>
          <a:xfrm>
            <a:off x="3419640" y="314172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El aprendizaje de los adultos tiene siempre una implicación personal que deriva en desarrollo, autoconcepto, preocupación, juicios, autoefica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6 Rectángulo"/>
          <p:cNvSpPr/>
          <p:nvPr/>
        </p:nvSpPr>
        <p:spPr>
          <a:xfrm>
            <a:off x="3419640" y="5157720"/>
            <a:ext cx="56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os adultos desean tener autonomía y ser el origen de su propio aprendizaje, es decir, quieren implicarse en la selección de objetivos, contenidos, actividades y evalu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7 Imagen" descr=""/>
          <p:cNvPicPr/>
          <p:nvPr/>
        </p:nvPicPr>
        <p:blipFill>
          <a:blip r:embed="rId1"/>
          <a:stretch/>
        </p:blipFill>
        <p:spPr>
          <a:xfrm>
            <a:off x="166680" y="3930480"/>
            <a:ext cx="3311640" cy="2251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http://www.gt.com.pa/IMAGES/image-345px.jpg"/>
          <p:cNvPicPr/>
          <p:nvPr/>
        </p:nvPicPr>
        <p:blipFill>
          <a:blip r:embed="rId2"/>
          <a:stretch/>
        </p:blipFill>
        <p:spPr>
          <a:xfrm>
            <a:off x="166680" y="1125360"/>
            <a:ext cx="328608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572314"/>
                </a:solidFill>
                <a:latin typeface="Bookman Old Style"/>
              </a:rPr>
              <a:t>CARACTERÍSTICAS DEL APRENDIZAJE ADULTO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1 Rectángulo"/>
          <p:cNvSpPr/>
          <p:nvPr/>
        </p:nvSpPr>
        <p:spPr>
          <a:xfrm>
            <a:off x="108000" y="105264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os adultos se resisten a aprender en situaciones que creen que cuestionan su competencia o que perciben como impues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2 Rectángulo"/>
          <p:cNvSpPr/>
          <p:nvPr/>
        </p:nvSpPr>
        <p:spPr>
          <a:xfrm>
            <a:off x="79200" y="3022560"/>
            <a:ext cx="535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a motivación de los adultos para aprender es interna; lo que se puede hacer es animar y crear las condiciones que promuevan lo que ya existe en ell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3 Rectángulo"/>
          <p:cNvSpPr/>
          <p:nvPr/>
        </p:nvSpPr>
        <p:spPr>
          <a:xfrm>
            <a:off x="79200" y="5084640"/>
            <a:ext cx="53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El aprendizaje adulto se fomenta mediante conductas y actividades de formación en las que se demuestre respeto, confianza y preocupación por lo que se apre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7 Imagen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3529080" cy="2232000"/>
          </a:xfrm>
          <a:prstGeom prst="rect">
            <a:avLst/>
          </a:prstGeom>
          <a:ln w="0">
            <a:noFill/>
          </a:ln>
        </p:spPr>
      </p:pic>
      <p:pic>
        <p:nvPicPr>
          <p:cNvPr id="349" name="8 Imagen" descr=""/>
          <p:cNvPicPr/>
          <p:nvPr/>
        </p:nvPicPr>
        <p:blipFill>
          <a:blip r:embed="rId2"/>
          <a:stretch/>
        </p:blipFill>
        <p:spPr>
          <a:xfrm>
            <a:off x="5435640" y="3597120"/>
            <a:ext cx="3529080" cy="2424240"/>
          </a:xfrm>
          <a:prstGeom prst="rect">
            <a:avLst/>
          </a:prstGeom>
          <a:ln w="0">
            <a:noFill/>
          </a:ln>
        </p:spPr>
      </p:pic>
      <p:sp>
        <p:nvSpPr>
          <p:cNvPr id="350" name="4 Señal de prohibido"/>
          <p:cNvSpPr/>
          <p:nvPr/>
        </p:nvSpPr>
        <p:spPr>
          <a:xfrm>
            <a:off x="5435640" y="1052640"/>
            <a:ext cx="3529080" cy="2232000"/>
          </a:xfrm>
          <a:custGeom>
            <a:avLst/>
            <a:gdLst/>
            <a:ahLst/>
            <a:rect l="l" t="t" r="r" b="b"/>
            <a:pathLst>
              <a:path w="3529013" h="2232025">
                <a:moveTo>
                  <a:pt x="0" y="1116013"/>
                </a:moveTo>
                <a:cubicBezTo>
                  <a:pt x="0" y="499656"/>
                  <a:pt x="789997" y="0"/>
                  <a:pt x="1764507" y="0"/>
                </a:cubicBezTo>
                <a:cubicBezTo>
                  <a:pt x="2739017" y="0"/>
                  <a:pt x="3529014" y="499656"/>
                  <a:pt x="3529014" y="1116013"/>
                </a:cubicBezTo>
                <a:cubicBezTo>
                  <a:pt x="3529014" y="1732370"/>
                  <a:pt x="2739017" y="2232026"/>
                  <a:pt x="1764507" y="2232026"/>
                </a:cubicBezTo>
                <a:cubicBezTo>
                  <a:pt x="789997" y="2232026"/>
                  <a:pt x="0" y="1732370"/>
                  <a:pt x="0" y="1116013"/>
                </a:cubicBezTo>
                <a:close/>
                <a:moveTo>
                  <a:pt x="2854064" y="1525556"/>
                </a:moveTo>
                <a:cubicBezTo>
                  <a:pt x="3389864" y="1142767"/>
                  <a:pt x="3050875" y="600479"/>
                  <a:pt x="2183723" y="453198"/>
                </a:cubicBezTo>
                <a:cubicBezTo>
                  <a:pt x="1834079" y="393813"/>
                  <a:pt x="1452764" y="411190"/>
                  <a:pt x="1128488" y="501287"/>
                </a:cubicBezTo>
                <a:lnTo>
                  <a:pt x="2854064" y="1525556"/>
                </a:lnTo>
                <a:close/>
                <a:moveTo>
                  <a:pt x="674949" y="706469"/>
                </a:moveTo>
                <a:cubicBezTo>
                  <a:pt x="139149" y="1089258"/>
                  <a:pt x="478138" y="1631546"/>
                  <a:pt x="1345290" y="1778827"/>
                </a:cubicBezTo>
                <a:cubicBezTo>
                  <a:pt x="1694934" y="1838212"/>
                  <a:pt x="2076249" y="1820835"/>
                  <a:pt x="2400525" y="1730738"/>
                </a:cubicBezTo>
                <a:lnTo>
                  <a:pt x="674949" y="706469"/>
                </a:lnTo>
                <a:close/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232d4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man Old Style"/>
              </a:rPr>
              <a:t>FINALIDAD DEL APRENDIZAJE ADULTO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4 Rectángulo"/>
          <p:cNvSpPr/>
          <p:nvPr/>
        </p:nvSpPr>
        <p:spPr>
          <a:xfrm>
            <a:off x="108000" y="1052640"/>
            <a:ext cx="8928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Bookman Old Style"/>
              </a:rPr>
              <a:t>El aprendizaje adulto debe estar orientado a que los y las estudiantes se conviertan en person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5 Rectángulo"/>
          <p:cNvSpPr/>
          <p:nvPr/>
        </p:nvSpPr>
        <p:spPr>
          <a:xfrm>
            <a:off x="3203640" y="184464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on iniciativa y responsables de sus propios ac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6 Rectángulo"/>
          <p:cNvSpPr/>
          <p:nvPr/>
        </p:nvSpPr>
        <p:spPr>
          <a:xfrm>
            <a:off x="3203640" y="272088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apaces de dirigirse y elegir inteligente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7 Rectángulo"/>
          <p:cNvSpPr/>
          <p:nvPr/>
        </p:nvSpPr>
        <p:spPr>
          <a:xfrm>
            <a:off x="3203640" y="349416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on espíritu crítico, que evalúan las aportaciones del docente y de los compañe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8 Rectángulo"/>
          <p:cNvSpPr/>
          <p:nvPr/>
        </p:nvSpPr>
        <p:spPr>
          <a:xfrm>
            <a:off x="3203640" y="459252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Interesadas en buscar solución a sus problemas práct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9 Rectángulo"/>
          <p:cNvSpPr/>
          <p:nvPr/>
        </p:nvSpPr>
        <p:spPr>
          <a:xfrm>
            <a:off x="108000" y="5445000"/>
            <a:ext cx="892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apaces de adaptarse a nuevas situaciones, interesadas en colaborar con eficacia en la solución de los problemas y que saben aplicar de un modo creador el resultado de sus pasadas experiencias al momento pre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10" descr="http://2.bp.blogspot.com/_LuImvghhIgo/TI7pkx46ynI/AAAAAAAAAKw/JSCjgaDpXdY/s1600/habilidad-negocios.jpg"/>
          <p:cNvPicPr/>
          <p:nvPr/>
        </p:nvPicPr>
        <p:blipFill>
          <a:blip r:embed="rId1"/>
          <a:stretch/>
        </p:blipFill>
        <p:spPr>
          <a:xfrm>
            <a:off x="131760" y="1924200"/>
            <a:ext cx="3071880" cy="337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eacc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72314"/>
                </a:solidFill>
                <a:latin typeface="Bookman Old Style"/>
              </a:rPr>
              <a:t>IMPLICACIONES EDUCATIVA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1 Rectángulo"/>
          <p:cNvSpPr/>
          <p:nvPr/>
        </p:nvSpPr>
        <p:spPr>
          <a:xfrm>
            <a:off x="108000" y="1052640"/>
            <a:ext cx="8928000" cy="520560"/>
          </a:xfrm>
          <a:prstGeom prst="rect">
            <a:avLst/>
          </a:prstGeom>
          <a:solidFill>
            <a:srgbClr val="eba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4853"/>
                </a:solidFill>
                <a:latin typeface="Bookman Old Style"/>
              </a:rPr>
              <a:t>La enseñanza debe saber orienta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2 Rectángulo"/>
          <p:cNvSpPr/>
          <p:nvPr/>
        </p:nvSpPr>
        <p:spPr>
          <a:xfrm>
            <a:off x="108000" y="1773360"/>
            <a:ext cx="5173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Bookman Old Style"/>
              </a:rPr>
              <a:t>Aprendizaje real de procedimientos: </a:t>
            </a: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entrar el trabajo formativo sobre el aprendizaje real de procedimientos más que sobre la transmisión únicamente conceptual, es decir, partir de la experiencia del adul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3 Rectángulo"/>
          <p:cNvSpPr/>
          <p:nvPr/>
        </p:nvSpPr>
        <p:spPr>
          <a:xfrm>
            <a:off x="4140360" y="4437000"/>
            <a:ext cx="48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Bookman Old Style"/>
              </a:rPr>
              <a:t>Pluridisciplinariedad: </a:t>
            </a: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introducir al máximo la pluridisciplinariedad en la formación y establecer una relación más centrada en la resolución de problemas práct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5 Imagen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4032360" cy="2664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cch-tlayacapan.com/images/DSC01777.JPG"/>
          <p:cNvPicPr/>
          <p:nvPr/>
        </p:nvPicPr>
        <p:blipFill>
          <a:blip r:embed="rId2"/>
          <a:stretch/>
        </p:blipFill>
        <p:spPr>
          <a:xfrm>
            <a:off x="5281560" y="1700280"/>
            <a:ext cx="37544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1:10:47Z</dcterms:created>
  <dc:creator>User 02</dc:creator>
  <dc:description/>
  <dc:language>en-US</dc:language>
  <cp:lastModifiedBy>Lic Vladimir</cp:lastModifiedBy>
  <dcterms:modified xsi:type="dcterms:W3CDTF">2014-01-27T17:04:01Z</dcterms:modified>
  <cp:revision>95</cp:revision>
  <dc:subject/>
  <dc:title>Diapositiva 1</dc:title>
</cp:coreProperties>
</file>