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A17-452A-452B-9C53-300108E1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9FC-A846-4DBE-B5CE-28A688FC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A02-D5C1-47CF-9E0E-BE301F5A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C14-19A8-44AC-ABD8-098756E1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478A-EDBC-4C9C-9757-330C99D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81A-37CE-495F-8AB7-97B6111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4D6-B249-406A-869B-197F78F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628-1EFB-4109-A2B8-90D6AD3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14E-93F1-460F-ACE4-32E273A5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91B5-BEE6-4F38-8CB6-A8C9CAEA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02B9-5494-4A3F-A2F3-D4821C1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612-FEB5-43E0-87F6-04A0AF0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4A72-E23B-4BD0-AFF4-9A8E01F4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1030-1494-49BE-9889-A2A6812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C715-7D60-4F94-8996-468F7854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23E-6FC4-4376-937D-341B8EEF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F20-E33B-479A-9910-05139E76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E40-A004-4893-932B-3A7F2A4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10B-6A40-4B25-84CA-8CE84D3E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406-ACFE-447A-9A2E-61808E2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0B9-5D92-46A5-879B-24D7E3D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F7A-3729-4082-866B-16E22EE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8C7-92C4-4760-A3B9-D2F9D5A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92B-6DFB-4E79-97BE-34814BF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79BA-7385-47ED-A842-F2F627A4AA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7B3-22FC-445F-87C1-9D271EC987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VALUACIÓN DE APRENDIZAJES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ONCEPCIÓN, TIPOLOGÍ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Y PRINCIPIOS BÁS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71280" y="443700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Javier Vladimir Quintanilla Orell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655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evaluación es el proceso de obtención de información y creación de argumentos, con los cuales propiciar la participación de individuos y grupos, en un debate crítico sobre programas específicos (Kemmis, 1986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evaluación se orienta a la argumentación sobre las circunstancias, los problemas y los logros de los evaluados (House, Cronbach, Stake, McDonald, Simon-Kemmis) para plantear decisiones fundamentadas y/o estrategias de mejora de procesos, programas, institucion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(Martínez, 200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S DE LA EVALUACIÓN EDUCA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4920" y="1916280"/>
            <a:ext cx="2252520" cy="695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) RECOPILACIÓN DE DA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12"/>
          <p:cNvSpPr/>
          <p:nvPr/>
        </p:nvSpPr>
        <p:spPr>
          <a:xfrm rot="5400000">
            <a:off x="1330560" y="270108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176560" y="2949480"/>
            <a:ext cx="2251080" cy="6955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B) ANÁLISIS DE INFORM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4510080" y="2695680"/>
            <a:ext cx="853920" cy="733320"/>
          </a:xfrm>
          <a:custGeom>
            <a:avLst/>
            <a:gdLst>
              <a:gd name="textAreaLeft" fmla="*/ 0 w 853920"/>
              <a:gd name="textAreaRight" fmla="*/ 731880 w 85392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4624560" y="1967040"/>
            <a:ext cx="2251080" cy="677880"/>
          </a:xfrm>
          <a:prstGeom prst="roundRect">
            <a:avLst>
              <a:gd name="adj" fmla="val 16667"/>
            </a:avLst>
          </a:prstGeom>
          <a:solidFill>
            <a:srgbClr val="ff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) FORMULACIÓN DE CONCLU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16"/>
          <p:cNvSpPr/>
          <p:nvPr/>
        </p:nvSpPr>
        <p:spPr>
          <a:xfrm flipV="1">
            <a:off x="6915240" y="2133000"/>
            <a:ext cx="896760" cy="711000"/>
          </a:xfrm>
          <a:custGeom>
            <a:avLst/>
            <a:gdLst>
              <a:gd name="textAreaLeft" fmla="*/ 0 w 896760"/>
              <a:gd name="textAreaRight" fmla="*/ 768600 w 896760"/>
              <a:gd name="textAreaTop" fmla="*/ 474120 h 711000"/>
              <a:gd name="textAreaBottom" fmla="*/ 711360 h 711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6423120" y="2895480"/>
            <a:ext cx="2252520" cy="67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) JUICIOS DE VALOR SOBRE LO EVALU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7367760" y="3645000"/>
            <a:ext cx="517320" cy="457200"/>
          </a:xfrm>
          <a:prstGeom prst="downArrow">
            <a:avLst>
              <a:gd name="adj1" fmla="val 50065"/>
              <a:gd name="adj2" fmla="val 3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6496200" y="4191120"/>
            <a:ext cx="2252520" cy="6778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) ADOPCIÓN DE ME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8567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COMPARACIÓN ENTRE INVESTIGACIÓN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Y EVALUACIÓN EDUC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8000" y="1341360"/>
          <a:ext cx="8928000" cy="534348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4795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E LA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E LA EVALU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4809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teamiento del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ción del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79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mulación de la 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3539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ificación y diseño: metodología, técnicas, instrumentos, tiempos, agentes, destinatari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ificación y diseño: metodología, técnicas, instrumentos, tiempos, agentes, destinatari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9590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cución: recogida, análisis y tratamiento de los da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ción: recogida, análisis y tratamiento de los da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6300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e: descripción y conclus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e: descripción y conclus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81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ración del objeto evalu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791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 de deci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TIPOLOGÍA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24000" y="1766880"/>
            <a:ext cx="352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) POR SU FUNCION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851280" y="148428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1224000"/>
              <a:gd name="textAreaBottom" fmla="*/ 1155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1"/>
                  <a:pt x="10800" y="3882"/>
                </a:cubicBezTo>
                <a:lnTo>
                  <a:pt x="10800" y="5225"/>
                </a:lnTo>
                <a:cubicBezTo>
                  <a:pt x="10800" y="7166"/>
                  <a:pt x="5400" y="9107"/>
                  <a:pt x="0" y="9107"/>
                </a:cubicBezTo>
                <a:cubicBezTo>
                  <a:pt x="5400" y="9107"/>
                  <a:pt x="10800" y="11048"/>
                  <a:pt x="10800" y="12989"/>
                </a:cubicBezTo>
                <a:lnTo>
                  <a:pt x="10800" y="17718"/>
                </a:lnTo>
                <a:cubicBezTo>
                  <a:pt x="10800" y="1965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4284720" y="1484280"/>
            <a:ext cx="2448000" cy="48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u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4284720" y="2252520"/>
            <a:ext cx="24480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F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24000" y="4581360"/>
            <a:ext cx="3527280" cy="619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b) POR SU NORMOT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3860640" y="3948120"/>
            <a:ext cx="287640" cy="1641600"/>
          </a:xfrm>
          <a:custGeom>
            <a:avLst/>
            <a:gdLst>
              <a:gd name="textAreaLeft" fmla="*/ 183960 w 287640"/>
              <a:gd name="textAreaRight" fmla="*/ 288000 w 287640"/>
              <a:gd name="textAreaTop" fmla="*/ 68760 h 1641600"/>
              <a:gd name="textAreaBottom" fmla="*/ 1572840 h 164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9"/>
                  <a:pt x="10800" y="2897"/>
                </a:cubicBezTo>
                <a:lnTo>
                  <a:pt x="10800" y="6210"/>
                </a:lnTo>
                <a:cubicBezTo>
                  <a:pt x="10800" y="7659"/>
                  <a:pt x="5400" y="9107"/>
                  <a:pt x="0" y="9107"/>
                </a:cubicBezTo>
                <a:cubicBezTo>
                  <a:pt x="5400" y="9107"/>
                  <a:pt x="10800" y="10556"/>
                  <a:pt x="10800" y="12004"/>
                </a:cubicBezTo>
                <a:lnTo>
                  <a:pt x="10800" y="18703"/>
                </a:lnTo>
                <a:cubicBezTo>
                  <a:pt x="10800" y="201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4284720" y="3948120"/>
            <a:ext cx="194292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moté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4284720" y="5140440"/>
            <a:ext cx="194292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deográf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6659640" y="3643200"/>
            <a:ext cx="1657440" cy="433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ri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6659640" y="4292640"/>
            <a:ext cx="1657440" cy="387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227640" y="3666960"/>
            <a:ext cx="289080" cy="9860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986040"/>
              <a:gd name="textAreaBottom" fmla="*/ 917280 h 9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9"/>
                  <a:pt x="10800" y="4817"/>
                </a:cubicBezTo>
                <a:lnTo>
                  <a:pt x="10800" y="4290"/>
                </a:lnTo>
                <a:cubicBezTo>
                  <a:pt x="10800" y="6699"/>
                  <a:pt x="5400" y="9107"/>
                  <a:pt x="0" y="9107"/>
                </a:cubicBezTo>
                <a:cubicBezTo>
                  <a:pt x="5400" y="9107"/>
                  <a:pt x="10800" y="11516"/>
                  <a:pt x="10800" y="13924"/>
                </a:cubicBezTo>
                <a:lnTo>
                  <a:pt x="10800" y="16783"/>
                </a:lnTo>
                <a:cubicBezTo>
                  <a:pt x="10800" y="1919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TIPOLOGÍA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24000" y="1766880"/>
            <a:ext cx="3527280" cy="87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) POR SU TEMPORAL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51280" y="1484280"/>
            <a:ext cx="289080" cy="19684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1968480"/>
              <a:gd name="textAreaBottom" fmla="*/ 1899720 h 19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7"/>
                  <a:pt x="10800" y="2414"/>
                </a:cubicBezTo>
                <a:lnTo>
                  <a:pt x="10800" y="6215"/>
                </a:lnTo>
                <a:cubicBezTo>
                  <a:pt x="10800" y="7422"/>
                  <a:pt x="5400" y="8629"/>
                  <a:pt x="0" y="8629"/>
                </a:cubicBezTo>
                <a:cubicBezTo>
                  <a:pt x="5400" y="8629"/>
                  <a:pt x="10800" y="9836"/>
                  <a:pt x="10800" y="11043"/>
                </a:cubicBezTo>
                <a:lnTo>
                  <a:pt x="10800" y="19186"/>
                </a:lnTo>
                <a:cubicBezTo>
                  <a:pt x="10800" y="2039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4284720" y="1484280"/>
            <a:ext cx="2448000" cy="48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284720" y="2252520"/>
            <a:ext cx="24480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ces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324000" y="4581360"/>
            <a:ext cx="3527280" cy="619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) POR SUS A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3860640" y="3948120"/>
            <a:ext cx="287640" cy="1641600"/>
          </a:xfrm>
          <a:custGeom>
            <a:avLst/>
            <a:gdLst>
              <a:gd name="textAreaLeft" fmla="*/ 183960 w 287640"/>
              <a:gd name="textAreaRight" fmla="*/ 288000 w 287640"/>
              <a:gd name="textAreaTop" fmla="*/ 68760 h 1641600"/>
              <a:gd name="textAreaBottom" fmla="*/ 1572840 h 164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9"/>
                  <a:pt x="10800" y="2897"/>
                </a:cubicBezTo>
                <a:lnTo>
                  <a:pt x="10800" y="6210"/>
                </a:lnTo>
                <a:cubicBezTo>
                  <a:pt x="10800" y="7659"/>
                  <a:pt x="5400" y="9107"/>
                  <a:pt x="0" y="9107"/>
                </a:cubicBezTo>
                <a:cubicBezTo>
                  <a:pt x="5400" y="9107"/>
                  <a:pt x="10800" y="10556"/>
                  <a:pt x="10800" y="12004"/>
                </a:cubicBezTo>
                <a:lnTo>
                  <a:pt x="10800" y="18703"/>
                </a:lnTo>
                <a:cubicBezTo>
                  <a:pt x="10800" y="201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4284720" y="3948120"/>
            <a:ext cx="244800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4284720" y="5140440"/>
            <a:ext cx="244800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Heter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4284720" y="2997360"/>
            <a:ext cx="24480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4313160" y="4549680"/>
            <a:ext cx="241956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EVALUACIÓN FORMATIVA Y EVALUACIÓN SU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341360"/>
          <a:ext cx="8569080" cy="51832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44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 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 SU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89064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 aplicable a la evaluación de proce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 aplicable a la evaluación de productos termina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3366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debe incorporar al mismo proceso de funcionamiento como un elemento integrante del mis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sitúa puntualmente al final de un proceso, cuando éste se considera acab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6840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 finalidad es la mejora del proceso evalu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finalidad es determinar el grado en que se han alcanzado los objetivos previstos y valorar positiva o negativamente el producto evalu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8272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mite tomar medidas de carácter inmedi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tomar medidas a medio y largo plaz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es un fenómeno moral, no meramente técnic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ha de ser un proceso y no un acto aisl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s preciso que la evaluación sea un proceso participativ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tiene un componente corroborad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evaluar hace falta tener un conocimiento especializ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que la evaluación tenga rigor se han de utilizar instrumentos diver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es un catalizador de todo el proceso de enseñanza y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contenido de la evaluación ha de ser complejo y globalizad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evaluar hace falta tener un conocimiento especializado del proceso de enseñanza y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tiene que servir para el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s importante hacer meta evalu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no debe ser un acto individualista sino colegi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SANOVA, M. A. (1995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Manual de Evaluación Educativ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ditorial La Muralla, S.A. Madrid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ÍNEZ RODRÍGUEZ, J. B. (2004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La Evalu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ags. 23 – 49). Programa de Fortalecimiento de Formación Inicial de Docentes. MINED-AECID-Universidad de Barcelo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NEDERO MOYA, J. J. (1998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Bases teóricas de la evaluación Educativ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diciones Aljibe, S.L. Málaga, 19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172908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1. ¿Cuáles son los tres conocimientos más importantes que aprendiste en la Universida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1 Subtítulo"/>
          <p:cNvSpPr/>
          <p:nvPr/>
        </p:nvSpPr>
        <p:spPr>
          <a:xfrm>
            <a:off x="108000" y="2637000"/>
            <a:ext cx="8928000" cy="129672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2. ¿Por qué consideras esos conocimientos tan importan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1 Subtítulo"/>
          <p:cNvSpPr/>
          <p:nvPr/>
        </p:nvSpPr>
        <p:spPr>
          <a:xfrm>
            <a:off x="128520" y="4221000"/>
            <a:ext cx="8929800" cy="180036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3. ¿De qué manera puedes verificar o comprobar que realmente posees esos conocimient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Nuestro problema para la comprensión</a:t>
            </a: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de la escolarización obligatoria</a:t>
            </a: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tiene su origen en un hecho inoportuno:</a:t>
            </a:r>
            <a:br>
              <a:rPr sz="2800"/>
            </a:b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el daño que hace desde una perspectiva humana</a:t>
            </a:r>
            <a:br>
              <a:rPr sz="2800"/>
            </a:b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es un bien desde una perspectiva de sistema” </a:t>
            </a:r>
            <a:br>
              <a:rPr sz="2800"/>
            </a:br>
            <a:br>
              <a:rPr sz="3600"/>
            </a:br>
            <a:r>
              <a:rPr b="0" lang="es-SV" sz="2000" spc="-1" strike="noStrike">
                <a:solidFill>
                  <a:srgbClr val="ffffff"/>
                </a:solidFill>
                <a:latin typeface="Verdana"/>
              </a:rPr>
              <a:t>(John Taylor G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El propósito más importante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de la evaluación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no es demostrar,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sino perfeccionar...” </a:t>
            </a:r>
            <a:br>
              <a:rPr sz="4000"/>
            </a:br>
            <a:br>
              <a:rPr sz="2800"/>
            </a:br>
            <a:r>
              <a:rPr b="0" lang="es-SV" sz="2000" spc="-1" strike="noStrike">
                <a:solidFill>
                  <a:srgbClr val="ffffff"/>
                </a:solidFill>
                <a:latin typeface="Verdana"/>
              </a:rPr>
              <a:t>(Stufflebeam, D.L. - Shinkfield, AJ.; 198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CEPTOS BÁSICOS IMPRESCIND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[ ENSEÑAR ]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1930320"/>
            <a:ext cx="4033800" cy="283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= Orientar y dirig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ética, </a:t>
            </a: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istem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y adecuad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 proceso 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64000" y="1628640"/>
            <a:ext cx="3672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[Planificar]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[Aplicar una metodología adecuada]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VALUAR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2 Flecha derecha"/>
          <p:cNvSpPr/>
          <p:nvPr/>
        </p:nvSpPr>
        <p:spPr>
          <a:xfrm>
            <a:off x="3795840" y="2349360"/>
            <a:ext cx="1568160" cy="7732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CEPTOS BÁSICOS IMPRESCINDIBL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250920" y="1197000"/>
            <a:ext cx="8353440" cy="792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[ APRENDIZAJE 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50920" y="2065320"/>
            <a:ext cx="8353440" cy="4603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Verdana"/>
              </a:rPr>
              <a:t>= Proceso mediante el cual se genera un cambio relativamente permanente en los conocimientos o en la conducta por medio de una experiencia significativa y gratifican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VALUACIÓN EDUCATIVA ≠ EVALUACIÓN DE APRENDIZ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14200" y="3105000"/>
            <a:ext cx="3961080" cy="12240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VALUACIÓN EDUCA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1 Rectángulo redondeado"/>
          <p:cNvSpPr/>
          <p:nvPr/>
        </p:nvSpPr>
        <p:spPr>
          <a:xfrm>
            <a:off x="157320" y="1268280"/>
            <a:ext cx="2506680" cy="9367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5 Rectángulo redondeado"/>
          <p:cNvSpPr/>
          <p:nvPr/>
        </p:nvSpPr>
        <p:spPr>
          <a:xfrm>
            <a:off x="2987640" y="1557360"/>
            <a:ext cx="4392720" cy="8636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L DESEMPEÑO PROFESIONAL DOC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6 Rectángulo redondeado"/>
          <p:cNvSpPr/>
          <p:nvPr/>
        </p:nvSpPr>
        <p:spPr>
          <a:xfrm>
            <a:off x="157320" y="5272200"/>
            <a:ext cx="2506680" cy="8935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 CURRÍCU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7 Rectángulo redondeado"/>
          <p:cNvSpPr/>
          <p:nvPr/>
        </p:nvSpPr>
        <p:spPr>
          <a:xfrm>
            <a:off x="3132000" y="5121360"/>
            <a:ext cx="439272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 RECURSOS Y MATERIALES EDUC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8 Rectángulo redondeado"/>
          <p:cNvSpPr/>
          <p:nvPr/>
        </p:nvSpPr>
        <p:spPr>
          <a:xfrm>
            <a:off x="5184720" y="3141720"/>
            <a:ext cx="3851280" cy="11509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DE APRENDIZ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2 Flecha arriba"/>
          <p:cNvSpPr/>
          <p:nvPr/>
        </p:nvSpPr>
        <p:spPr>
          <a:xfrm>
            <a:off x="1168560" y="225576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10 Flecha arriba"/>
          <p:cNvSpPr/>
          <p:nvPr/>
        </p:nvSpPr>
        <p:spPr>
          <a:xfrm rot="1902600">
            <a:off x="3873240" y="2414160"/>
            <a:ext cx="485640" cy="812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11 Flecha arriba"/>
          <p:cNvSpPr/>
          <p:nvPr/>
        </p:nvSpPr>
        <p:spPr>
          <a:xfrm rot="5400000">
            <a:off x="4475880" y="331056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13 Flecha arriba"/>
          <p:cNvSpPr/>
          <p:nvPr/>
        </p:nvSpPr>
        <p:spPr>
          <a:xfrm rot="8955000">
            <a:off x="3839760" y="4276440"/>
            <a:ext cx="485640" cy="8143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15 Flecha arriba"/>
          <p:cNvSpPr/>
          <p:nvPr/>
        </p:nvSpPr>
        <p:spPr>
          <a:xfrm rot="10800000">
            <a:off x="1168200" y="438768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841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ceso sistemático y riguroso de obtención de datos, incorporado al proceso educativo desde su comienzo, de manera que sea posible disponer de información continua y significativa para conocer la situación, formar juicios de valor con respecto a ella y tomar las decisiones adecuadas para proseguir la actividad educativa mejorándola progresiva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(Casanova, 199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818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ceso de obtención de información rigurosa y sistemática para contar con datos válidos y fiables acerca de una situación con objeto de formar y emitir un juicio de valor con respecto a ella. Estas valoraciones permitirán tomar las decisiones consecuentes en orden a corregir o mejorar la situación evalu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(Monedero, 199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4-01-24T20:40:34Z</dcterms:modified>
  <cp:revision>62</cp:revision>
  <dc:subject/>
  <dc:title>Diapositiva 1</dc:title>
</cp:coreProperties>
</file>