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4D15-13B0-4D26-94B8-2E5F39787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586E-28CC-4638-88EF-79C63E4B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7FBD-E23E-441D-8BF0-A2A34BA53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3F04-24AB-4279-9BB3-C4DD023F0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F400-20AD-4E75-A29E-698907A8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6B63-815F-4A8C-B8DE-F7CA472B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2894-1DAE-466D-80C2-918F47B7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249D-CB3C-4B1A-8D74-EA504FC2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85C1-8766-40EE-A43D-6C0279E6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E9C2-4087-4618-BCB1-E2C8F913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63AC-ACA4-4632-B599-2D785A82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9484-EF60-4E40-B8B5-9D1901A4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467A-6A56-4A78-90DC-D56104CCD240}" type="slidenum">
              <a:rPr b="0" lang="es-E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240" y="2707920"/>
            <a:ext cx="892944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LECCIONES APRENDIDAS,</a:t>
            </a:r>
            <a:br>
              <a:rPr sz="3600"/>
            </a:b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DESDE MI EXPERIENCIA,</a:t>
            </a:r>
            <a:br>
              <a:rPr sz="3600"/>
            </a:b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SOBRE LA EVALUACIÓN DE APRENDIZAJ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79280" y="189000"/>
          <a:ext cx="8856720" cy="1871640"/>
        </p:xfrm>
        <a:graphic>
          <a:graphicData uri="http://schemas.openxmlformats.org/drawingml/2006/table">
            <a:tbl>
              <a:tblPr/>
              <a:tblGrid>
                <a:gridCol w="1656000"/>
                <a:gridCol w="5545080"/>
                <a:gridCol w="1655640"/>
              </a:tblGrid>
              <a:tr h="1871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SV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*** UNIVERSIDAD DE EL SALVADOR 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S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CULTAD DE JURISPRUDENCIA Y CIENCIAS SOC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S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NIDAD DE DOCENCIA Y DESARROLLO PROFES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368360" cy="1656000"/>
          </a:xfrm>
          <a:prstGeom prst="rect">
            <a:avLst/>
          </a:prstGeom>
          <a:ln w="0">
            <a:noFill/>
          </a:ln>
        </p:spPr>
      </p:pic>
      <p:pic>
        <p:nvPicPr>
          <p:cNvPr id="44" name="Imagen 4" descr=""/>
          <p:cNvPicPr/>
          <p:nvPr/>
        </p:nvPicPr>
        <p:blipFill>
          <a:blip r:embed="rId2"/>
          <a:stretch/>
        </p:blipFill>
        <p:spPr>
          <a:xfrm>
            <a:off x="7561440" y="260280"/>
            <a:ext cx="1323720" cy="1656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147600" y="5516640"/>
            <a:ext cx="8856720" cy="122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DIPLOMADO DE DOCENCIA EN EDUCACIÓN SUPERIOR PARA DOCEN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DE LA FACULTAD DE JURISPRUDENCIA Y CIENCIAS SOCIA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Módulo: </a:t>
            </a:r>
            <a:r>
              <a:rPr b="1" lang="es-SV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EVALUACIÓN DE APRENDIZAJES * Docente: Javier Vladimir Quintanilla Orella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LECCIONES APRENDIDAS, DESDE MI EXPERIENCIA,</a:t>
            </a:r>
            <a:br>
              <a:rPr sz="2400"/>
            </a:b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SOBRE LA EVALUACIÓN DE APRENDIZAJ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08000" y="1196640"/>
            <a:ext cx="8928000" cy="259236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8. Como decía un antiguo y sabio maestro de evaluación: </a:t>
            </a:r>
            <a:r>
              <a:rPr b="1" i="1" lang="es-MX" sz="3200" spc="-1" strike="noStrike">
                <a:solidFill>
                  <a:srgbClr val="000000"/>
                </a:solidFill>
                <a:latin typeface="Calibri"/>
              </a:rPr>
              <a:t>«La evaluación será siempre como el bikini: nunca nos mostrará todo, pero, nos dará una idea de lo que, probablemente, podemos encontrar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2 Marcador de contenido"/>
          <p:cNvSpPr/>
          <p:nvPr/>
        </p:nvSpPr>
        <p:spPr>
          <a:xfrm>
            <a:off x="108000" y="3860640"/>
            <a:ext cx="8928000" cy="2448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La calificación, la nota, como resultado de la evaluación, nunca será un indicador objetivo de lo que el estudiante realmente aprendió; pero, si el proceso evaluativo se ha llevado de forma sistemática y rigurosa, la calificación será un reflejo tenue, pero, más o menos fiable, que proporciona un diagnóstico del nivel de rendimiento del estudia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3 Marcador de contenido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662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4 Marcador de contenido" descr=""/>
          <p:cNvPicPr/>
          <p:nvPr/>
        </p:nvPicPr>
        <p:blipFill>
          <a:blip r:embed="rId1"/>
          <a:stretch/>
        </p:blipFill>
        <p:spPr>
          <a:xfrm>
            <a:off x="108000" y="1125360"/>
            <a:ext cx="8928000" cy="4464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5 Imagen" descr=""/>
          <p:cNvPicPr/>
          <p:nvPr/>
        </p:nvPicPr>
        <p:blipFill>
          <a:blip r:embed="rId1"/>
          <a:stretch/>
        </p:blipFill>
        <p:spPr>
          <a:xfrm>
            <a:off x="431640" y="0"/>
            <a:ext cx="8394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504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MI SUGERENCIA EN CUANTO AL SISTEMA DE EVALUACIÓ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08000" y="691920"/>
            <a:ext cx="8928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8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CICLO ACADÉMICO: 16 SEMAN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2 Marcador de contenido"/>
          <p:cNvSpPr/>
          <p:nvPr/>
        </p:nvSpPr>
        <p:spPr>
          <a:xfrm>
            <a:off x="90360" y="1125360"/>
            <a:ext cx="2681280" cy="360720"/>
          </a:xfrm>
          <a:prstGeom prst="rect">
            <a:avLst/>
          </a:prstGeom>
          <a:solidFill>
            <a:srgbClr val="000000"/>
          </a:solidFill>
          <a:ln w="9360">
            <a:solidFill>
              <a:srgbClr val="db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beef4"/>
                </a:solidFill>
                <a:latin typeface="Calibri"/>
              </a:rPr>
              <a:t>SEMANA 1 - 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2 Marcador de contenido"/>
          <p:cNvSpPr/>
          <p:nvPr/>
        </p:nvSpPr>
        <p:spPr>
          <a:xfrm>
            <a:off x="2843280" y="1125360"/>
            <a:ext cx="3457440" cy="360720"/>
          </a:xfrm>
          <a:prstGeom prst="rect">
            <a:avLst/>
          </a:prstGeom>
          <a:solidFill>
            <a:srgbClr val="000000"/>
          </a:solidFill>
          <a:ln w="9360">
            <a:solidFill>
              <a:srgbClr val="db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beef4"/>
                </a:solidFill>
                <a:latin typeface="Calibri"/>
              </a:rPr>
              <a:t>SEMANA 6 - 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2 Marcador de contenido"/>
          <p:cNvSpPr/>
          <p:nvPr/>
        </p:nvSpPr>
        <p:spPr>
          <a:xfrm>
            <a:off x="6372360" y="1125360"/>
            <a:ext cx="2663640" cy="360720"/>
          </a:xfrm>
          <a:prstGeom prst="rect">
            <a:avLst/>
          </a:prstGeom>
          <a:solidFill>
            <a:srgbClr val="000000"/>
          </a:solidFill>
          <a:ln w="9360">
            <a:solidFill>
              <a:srgbClr val="db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beef4"/>
                </a:solidFill>
                <a:latin typeface="Calibri"/>
              </a:rPr>
              <a:t>SEMANA 12 - 1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2 Marcador de contenido"/>
          <p:cNvSpPr/>
          <p:nvPr/>
        </p:nvSpPr>
        <p:spPr>
          <a:xfrm>
            <a:off x="90360" y="1555920"/>
            <a:ext cx="2681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3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2 Marcador de contenido"/>
          <p:cNvSpPr/>
          <p:nvPr/>
        </p:nvSpPr>
        <p:spPr>
          <a:xfrm>
            <a:off x="2843280" y="1555920"/>
            <a:ext cx="34574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4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2 Marcador de contenido"/>
          <p:cNvSpPr/>
          <p:nvPr/>
        </p:nvSpPr>
        <p:spPr>
          <a:xfrm>
            <a:off x="6372360" y="1555920"/>
            <a:ext cx="2663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3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2 Marcador de contenido"/>
          <p:cNvSpPr/>
          <p:nvPr/>
        </p:nvSpPr>
        <p:spPr>
          <a:xfrm>
            <a:off x="90360" y="1989000"/>
            <a:ext cx="2681280" cy="23767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alibri"/>
              </a:rPr>
              <a:t>10%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alibri"/>
              </a:rPr>
              <a:t>Actividades evaluativas: controles de lectura, cuadros resumen, etc. (individual o en equipo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alibri"/>
              </a:rPr>
              <a:t>20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alibri"/>
              </a:rPr>
              <a:t>Examen parcial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2 Marcador de contenido"/>
          <p:cNvSpPr/>
          <p:nvPr/>
        </p:nvSpPr>
        <p:spPr>
          <a:xfrm>
            <a:off x="2843280" y="1989000"/>
            <a:ext cx="3457440" cy="23767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alibri"/>
              </a:rPr>
              <a:t>20%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alibri"/>
              </a:rPr>
              <a:t>Actividades evaluativas: informes escritos, exposiciones, etc. (individual, en equipo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alibri"/>
              </a:rPr>
              <a:t>20%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alibri"/>
              </a:rPr>
              <a:t>Examen parcial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2 Marcador de contenido"/>
          <p:cNvSpPr/>
          <p:nvPr/>
        </p:nvSpPr>
        <p:spPr>
          <a:xfrm>
            <a:off x="6372360" y="1989000"/>
            <a:ext cx="2663640" cy="23767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alibri"/>
              </a:rPr>
              <a:t>10%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alibri"/>
              </a:rPr>
              <a:t>Actividades evaluativas: informes escritos, exposiciones, etc. (individual, en equipo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alibri"/>
              </a:rPr>
              <a:t>20%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alibri"/>
              </a:rPr>
              <a:t>Examen parcial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2 Marcador de contenido"/>
          <p:cNvSpPr/>
          <p:nvPr/>
        </p:nvSpPr>
        <p:spPr>
          <a:xfrm>
            <a:off x="92160" y="4437000"/>
            <a:ext cx="2682720" cy="22716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30%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Actividades evaluativas: controles de lectura, cuadros resumen, etc. (individual o en equipo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2 Marcador de contenido"/>
          <p:cNvSpPr/>
          <p:nvPr/>
        </p:nvSpPr>
        <p:spPr>
          <a:xfrm>
            <a:off x="2843280" y="4437000"/>
            <a:ext cx="3457440" cy="22716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20%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Examen parcial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20%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Actividades evaluativas: informes escritos, exposiciones, etc. (individual, en equipo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2 Marcador de contenido"/>
          <p:cNvSpPr/>
          <p:nvPr/>
        </p:nvSpPr>
        <p:spPr>
          <a:xfrm>
            <a:off x="6378480" y="4437000"/>
            <a:ext cx="2662200" cy="22716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10%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Actividades evaluativas: informes escritos, exposiciones, etc. (individual, en equipo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20%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Examen parcial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LECCIONES APRENDIDAS, DESDE MI EXPERIENCIA,</a:t>
            </a:r>
            <a:br>
              <a:rPr sz="2400"/>
            </a:b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SOBRE LA EVALUACIÓN DE APRENDIZAJ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08000" y="1196640"/>
            <a:ext cx="8928000" cy="23050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ff"/>
                </a:solidFill>
                <a:latin typeface="Calibri"/>
              </a:rPr>
              <a:t>1. «Dime cómo evalúas y te diré cómo enseñas»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2 Marcador de contenido"/>
          <p:cNvSpPr/>
          <p:nvPr/>
        </p:nvSpPr>
        <p:spPr>
          <a:xfrm>
            <a:off x="108000" y="3645000"/>
            <a:ext cx="8928000" cy="23050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La forma cómo evaluamos (el sistema, las técnicas, los instrumentos, el informe) denota, implícitamente, nuestra práctica didáctica así como la concepción de aprendizaje que aplicamos en nuestra enseñanz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LECCIONES APRENDIDAS, DESDE MI EXPERIENCIA,</a:t>
            </a:r>
            <a:br>
              <a:rPr sz="2400"/>
            </a:b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SOBRE LA EVALUACIÓN DE APRENDIZAJ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08000" y="1196640"/>
            <a:ext cx="8928000" cy="208764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Calibri"/>
              </a:rPr>
              <a:t>2. Debe evaluarse lo que se ha aprendido, no lo que ya se sabe que no se aprendió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2 Marcador de contenido"/>
          <p:cNvSpPr/>
          <p:nvPr/>
        </p:nvSpPr>
        <p:spPr>
          <a:xfrm>
            <a:off x="108000" y="3429000"/>
            <a:ext cx="8928000" cy="33130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Las condiciones en las que se realiza la evaluación deben ser muy similares a las que se dieron en el proceso de aprendizaje, así como lo que se evalúa y la forma de evalua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La evaluación y el aprendizaje deben ser procesos orgánicos, no industriales ni mecánicos; por tanto, habrá que humanizarlos para no desvirtuar su verdadera naturalez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LECCIONES APRENDIDAS, DESDE MI EXPERIENCIA,</a:t>
            </a:r>
            <a:br>
              <a:rPr sz="2400"/>
            </a:b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SOBRE LA EVALUACIÓN DE APRENDIZAJ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8000" y="1197000"/>
            <a:ext cx="8928000" cy="216072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Calibri"/>
              </a:rPr>
              <a:t>3. La mejor forma de evaluar el aprendizaje es cuando se está dando, cuando está ocurriendo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2 Marcador de contenido"/>
          <p:cNvSpPr/>
          <p:nvPr/>
        </p:nvSpPr>
        <p:spPr>
          <a:xfrm>
            <a:off x="108000" y="3500280"/>
            <a:ext cx="8928000" cy="302436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Nuestro cerebro solo puede ser estudiado e investigado mientras está funcionand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Algo muy similar pasa cuando aprendemos, sólo podemos comprender cómo se ha dado y adquirido el aprendizaje si observamos dicho proceso cuando ocurre y no a posterior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LECCIONES APRENDIDAS, DESDE MI EXPERIENCIA,</a:t>
            </a:r>
            <a:br>
              <a:rPr sz="2400"/>
            </a:b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SOBRE LA EVALUACIÓN DE APRENDIZAJ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08000" y="1125000"/>
            <a:ext cx="8928000" cy="374364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Calibri"/>
              </a:rPr>
              <a:t>4. Las actividades de evaluación (incluyendo los exámenes) deben considerarse, seriamente, como estrategias para aprender, antes de destinarles sólo el propósito de la obtención de nota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2 Marcador de contenido"/>
          <p:cNvSpPr/>
          <p:nvPr/>
        </p:nvSpPr>
        <p:spPr>
          <a:xfrm>
            <a:off x="108000" y="4941720"/>
            <a:ext cx="8928000" cy="107964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800" spc="-1" strike="noStrike">
                <a:solidFill>
                  <a:srgbClr val="000000"/>
                </a:solidFill>
                <a:latin typeface="Calibri"/>
              </a:rPr>
              <a:t>El error es fuente de aprendizaje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LECCIONES APRENDIDAS, DESDE MI EXPERIENCIA,</a:t>
            </a:r>
            <a:br>
              <a:rPr sz="2400"/>
            </a:b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SOBRE LA EVALUACIÓN DE APRENDIZAJ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08000" y="1196640"/>
            <a:ext cx="8928000" cy="237636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5. Cada técnica e instrumento de evaluación están diseñados para un tipo específico de aprendizaje. Por lo que cada evaluación debe tener su técnica y su instrumento propi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2 Marcador de contenido"/>
          <p:cNvSpPr/>
          <p:nvPr/>
        </p:nvSpPr>
        <p:spPr>
          <a:xfrm>
            <a:off x="108000" y="3789360"/>
            <a:ext cx="8928000" cy="280836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No se puede medir la temperatura con un estetoscopi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Y, no se puede determinar una nota sólo desde las sensaciones y las percepciones, hay que dimensionar, valorar y decidir sistemáticamente, lo que implica planificar la evaluación, aplicar técnicas e instrumentos, hasta evaluar la misma evaluación (meta-evaluación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LECCIONES APRENDIDAS, DESDE MI EXPERIENCIA,</a:t>
            </a:r>
            <a:br>
              <a:rPr sz="2400"/>
            </a:b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SOBRE LA EVALUACIÓN DE APRENDIZAJ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08000" y="1197000"/>
            <a:ext cx="8928000" cy="201600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Calibri"/>
              </a:rPr>
              <a:t>6. La finalidad esencial de la evaluación de aprendizajes es mejorar el proceso de enseñanza-aprendizaj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2 Marcador de contenido"/>
          <p:cNvSpPr/>
          <p:nvPr/>
        </p:nvSpPr>
        <p:spPr>
          <a:xfrm>
            <a:off x="108000" y="3284640"/>
            <a:ext cx="8928000" cy="338436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La calificación es sólo una consecuencia de la aplicación del proceso, la cual debe servir para realimentar al estudiante en cuanto a lo que debe mejorar para que lo supere y sus potencialidades para que las aprovech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Las calificaciones obtenidas deben servirnos, incluso, para reorientar la misma enseñanz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LECCIONES APRENDIDAS, DESDE MI EXPERIENCIA,</a:t>
            </a:r>
            <a:br>
              <a:rPr sz="2400"/>
            </a:b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SOBRE LA EVALUACIÓN DE APRENDIZAJ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8000" y="1125000"/>
            <a:ext cx="8928000" cy="158292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7. Los mejores evaluadores son capaces de evaluarse a sí mismos de manera honesta, crítica y reflexiv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2 Marcador de contenido"/>
          <p:cNvSpPr/>
          <p:nvPr/>
        </p:nvSpPr>
        <p:spPr>
          <a:xfrm>
            <a:off x="108000" y="2781360"/>
            <a:ext cx="8928000" cy="396072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Es inconcebible que un docente se atreva a evaluar a sus estudiantes, es decir, a otras personas, cuando no es capaz de evaluarse a sí mismo, honesta y críticamente, como persona y profesion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Hay que recordar que, nuestro compromiso como docentes universitarios, es el formar y brindar a la sociedad salvadoreña los y las mejores profesionales a su servicio, y depende mucho de la evaluación que realizamos en las asignaturas así cómo del modelo de profesional y docente que vean en nosotr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«El medio es el mensaje» (McLuha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«El método es, también, contenido» (Imbernó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21:10:47Z</dcterms:created>
  <dc:creator>User 02</dc:creator>
  <dc:description/>
  <dc:language>en-US</dc:language>
  <cp:lastModifiedBy>Lic Vladimir</cp:lastModifiedBy>
  <dcterms:modified xsi:type="dcterms:W3CDTF">2013-12-06T19:59:25Z</dcterms:modified>
  <cp:revision>184</cp:revision>
  <dc:subject/>
  <dc:title>Diapositiva 1</dc:title>
</cp:coreProperties>
</file>